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inancial Education - Class VI, National Centre for Financial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C53E-D0CA-4EEB-AC5D-C1D8F2924B1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E6BE-D488-4869-9BBD-AD7C7857CAD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inancial Education - Class VI, National Centre for Financial Edu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9618-36B0-4839-B376-19463133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A117-AE95-40E9-BC69-D164A977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38C8-05AD-4A35-8681-6AF9A67D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38D9-D056-4B57-8249-84026835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28D1-B8FC-44A4-BA0E-EDAD9108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FFF2-7B48-4BD5-ACD7-8F4F2D3C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DF3F-F6AD-4822-9058-4F466D52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7142-CB7A-44D1-9FCC-B5223D5A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6D5D-3AB9-4D07-A13A-B7C0CD75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8CB2-B08D-4BAC-A620-7ED5D9CC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C5CF-A7AD-4D11-90CB-2286BD44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03B0-BC1B-41F1-9CE6-88243477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3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4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5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6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E720-8171-4EDB-8BFC-0F639AD123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9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0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2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47640" y="28112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9e2f"/>
                </a:solidFill>
                <a:latin typeface="Verdana"/>
              </a:rPr>
              <a:t>Financial Education 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759040" y="3509640"/>
            <a:ext cx="3625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ass VI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0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058760" y="1209600"/>
            <a:ext cx="7121520" cy="45547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C:\Documents and Settings\sandeep\Desktop\Cash Memo.jpg"/>
          <p:cNvPicPr/>
          <p:nvPr/>
        </p:nvPicPr>
        <p:blipFill>
          <a:blip r:embed="rId2"/>
          <a:stretch/>
        </p:blipFill>
        <p:spPr>
          <a:xfrm>
            <a:off x="0" y="0"/>
            <a:ext cx="4838760" cy="6858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" descr="C:\Documents and Settings\sandeep\Desktop\25574.jpg"/>
          <p:cNvPicPr/>
          <p:nvPr/>
        </p:nvPicPr>
        <p:blipFill>
          <a:blip r:embed="rId3"/>
          <a:stretch/>
        </p:blipFill>
        <p:spPr>
          <a:xfrm>
            <a:off x="4838760" y="14400"/>
            <a:ext cx="4290840" cy="6843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What is Trade?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ransfer of goods and services from one person or entity to another in exchange for something is called trad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roadly, there are two types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Domestic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Foreign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rade within the geographical boundary of a country is called domestic trad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eign trade happens between two or more countri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of trad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pportunity for trade arises because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 country can produce goods at a lesser cost than the other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lso, a country can produce goods which the other country is unable to produc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 our country, Punjab is known for wheat farming where as Kerala predominantly produces ri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armers in both these states have developed expertise in their area of farming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Kerala needs wheat, instead of doing wheat farming it can buy wheat from Punjab or can exchange it with ri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Importance of saving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 simple terms, savings is not spending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ut aside a part of the money you have now for fut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don’t need a large amount to start saving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ut a little money aside regularly and it will grow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must spend less to save mo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aving will help you meet unexpected money requirements in fut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can also set a goal and save for it, like buying your favorite book or to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600" name="Picture 2" descr="E:\All Desktop\Feb - May 2016\Picture1.jpg"/>
          <p:cNvPicPr/>
          <p:nvPr/>
        </p:nvPicPr>
        <p:blipFill>
          <a:blip r:embed="rId1"/>
          <a:srcRect l="0" t="3756" r="0" b="286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Types of tax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ax is a fee charged by the government on income or price of a goo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tax is charged on income it is called direct tax and if it charged on the price of goods and services its known as indirect tax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ave you wondered from where government gets money to spend on building roads and bridges, parks, schools, hospitals, etc.?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Why do we need to pay taxes?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ur government has the responsibility to improve the  standard of living of our citize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need money to build roads, hospitals, parks and bridges etc. in our countr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axation generates this revenue which is used for all the above mentioned purpos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y paying taxes responsible citizens help their country grow and develop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28f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2652840" y="264312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Microsoft YaHei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Box 5"/>
          <p:cNvSpPr/>
          <p:nvPr/>
        </p:nvSpPr>
        <p:spPr>
          <a:xfrm>
            <a:off x="-241200" y="4451400"/>
            <a:ext cx="938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ail : info@ncfe.org.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ll : </a:t>
            </a:r>
            <a:r>
              <a:rPr b="0" lang="en-I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2 68265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ke : facebook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llow : twitter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e : youtube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8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onten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2724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1600" indent="-471600">
              <a:spcBef>
                <a:spcPts val="451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History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arter System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Evolution of Money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Civics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Needs and Want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ill/ Cash Mem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Geography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enefits of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451"/>
              </a:spcBef>
              <a:buClr>
                <a:srgbClr val="5078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English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Radha and the Frog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Grandfather’s Coin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Mathematics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axatio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Nurturing the Money Plan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arter System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058760" y="1224000"/>
            <a:ext cx="3949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xchange of goods and services by one person in return for goods and services from</a:t>
            </a:r>
            <a:r>
              <a:rPr b="1" lang="en-US" sz="2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nother person is called barter system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s system existed when there was no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fficulties existed under the barter system; like double coincidence of wan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5" name="Picture 4" descr="Jacksonville-Barter-Exchange-Trading.jpg"/>
          <p:cNvPicPr/>
          <p:nvPr/>
        </p:nvPicPr>
        <p:blipFill>
          <a:blip r:embed="rId1"/>
          <a:stretch/>
        </p:blipFill>
        <p:spPr>
          <a:xfrm>
            <a:off x="5092560" y="1982880"/>
            <a:ext cx="3835440" cy="2361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volution of Mone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ople were engaged in bart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goods to be exchanged were not necessarily of the same valu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was also difficult to store goods, particularly perishable ones like fish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discovery of metal solved many of these difficulties and it begun to be used as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Long evolution proces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mall metal pieces, with fixed weight and value and bearing an official seal appeared in 6</a:t>
            </a:r>
            <a:r>
              <a:rPr b="1" lang="en-US" sz="2000" spc="-1" strike="noStrike" baseline="30000">
                <a:solidFill>
                  <a:srgbClr val="507800"/>
                </a:solidFill>
                <a:latin typeface="Verdana"/>
              </a:rPr>
              <a:t>th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century B.C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edominantly gold and silver were used to mint coi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uring the Mauryan period copper was also used to mint coi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King Sher Shah Suri issued a silver coin and termed it as ‘Rupiya’. The word is said to be derived from the Sanskrit word ‘Rupya’ which means a coin of silv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Rupee as we see toda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arliest issue of rupee in the form of paper currency was by the Bank of Hindusta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fter independence, followed by accession of princely states to the new union, Reserve Bank of India issued Indian National Rupee (INR) notes on behalf of the Governme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dian rupee now has a universally recognized symbol since the year 2010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ymbol: Major Currenci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583" name="Content Placeholder 5" descr="CURRENCE2.png"/>
          <p:cNvPicPr/>
          <p:nvPr/>
        </p:nvPicPr>
        <p:blipFill>
          <a:blip r:embed="rId1"/>
          <a:stretch/>
        </p:blipFill>
        <p:spPr>
          <a:xfrm>
            <a:off x="1378080" y="990720"/>
            <a:ext cx="6472080" cy="4636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3" descr="want-need-apple.jpg"/>
          <p:cNvPicPr/>
          <p:nvPr/>
        </p:nvPicPr>
        <p:blipFill>
          <a:blip r:embed="rId1"/>
          <a:stretch/>
        </p:blipFill>
        <p:spPr>
          <a:xfrm>
            <a:off x="1450800" y="5383080"/>
            <a:ext cx="3326040" cy="128448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Needs and Wan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7800"/>
                </a:solidFill>
                <a:latin typeface="Verdana"/>
              </a:rPr>
              <a:t>Need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are things that we must have in order to survive - things we truly can’t be withou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7800"/>
                </a:solidFill>
                <a:latin typeface="Verdana"/>
              </a:rPr>
              <a:t>Want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on the other hand, are things that we would like to have, but that are not necessary for survival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ome needs and wants don’t cost any money at all: like air. Many needs and wants, however, cost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should cater to your needs first, before you can buy the things you wa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sk for a bill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bill offers protection and benefits to both buyer and sell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you don’t have the bill and the item you have purchased turns out to be faulty, you lose the right to complain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ome shopkeepers on their own won’t insist on giving you a bill as they want to avoid paying tax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very time you make a purchase or make any payments ask for a bill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ncfeadmin</cp:lastModifiedBy>
  <cp:lastPrinted>1899-12-30T00:00:00Z</cp:lastPrinted>
  <dcterms:modified xsi:type="dcterms:W3CDTF">2021-06-30T04:43:36Z</dcterms:modified>
  <cp:revision>9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