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BCFB-9C8F-4181-889D-6B059A15D48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3A42-DA80-402C-8813-A4B0CE2F52D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A136-8978-458E-A0A4-B73C4E0D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3934-0472-4397-9496-9E9F601C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0CAA-D8E9-477F-A2D8-C1B1D234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9B44-C58E-41CA-A265-CA0A393B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1B75-3784-4042-95CA-45D93288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F643-92E3-437E-8C17-869C9697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AC52-4650-49F6-994D-7D5D3CFA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0AD0-547E-4A96-A00B-527A75E4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DA7B-D583-47A4-99AA-6ADF57A6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5C4D-7C16-4DFB-961A-C1CC0E63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1660-A8BD-4D43-A15C-525164CD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7314-FB73-4417-8323-547941B1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5785-27AC-4AB1-B6B9-2CF0FCD28B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VI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58760" y="1209600"/>
            <a:ext cx="7121520" cy="45547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C:\Documents and Settings\sandeep\Desktop\Cash Memo.jpg"/>
          <p:cNvPicPr/>
          <p:nvPr/>
        </p:nvPicPr>
        <p:blipFill>
          <a:blip r:embed="rId2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C:\Documents and Settings\sandeep\Desktop\25574.jpg"/>
          <p:cNvPicPr/>
          <p:nvPr/>
        </p:nvPicPr>
        <p:blipFill>
          <a:blip r:embed="rId3"/>
          <a:stretch/>
        </p:blipFill>
        <p:spPr>
          <a:xfrm>
            <a:off x="4838760" y="14400"/>
            <a:ext cx="4290840" cy="6843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at is Trade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nsfer of goods and services from one person or entity to another in exchange for something is called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roadly, there are two type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Domestic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Foreign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de within the geographical boundary of a country is called domestic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eign trade happens between two or more countri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of tra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portunity for trade arises because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 country can produce goods at a lesser cost than the other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lso, a country can produce goods which the other country is unable to produc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our country, Punjab is known for wheat farming where as Kerala predominantly produces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rmers in both these states have developed expertise in their area of farm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Kerala needs wheat, instead of doing wheat farming it can buy wheat from Punjab or can exchange it with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mportance of saving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simple terms, savings is not spending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side a part of the money you have now for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don’t need a large amount to start sav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 little money aside regularly and it will grow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must spend less to save mo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aving will help you meet unexpected money requirements in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also set a goal and save for it, like buying your favorite book or to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600" name="Picture 2" descr="E:\All Desktop\Feb - May 2016\Picture1.jpg"/>
          <p:cNvPicPr/>
          <p:nvPr/>
        </p:nvPicPr>
        <p:blipFill>
          <a:blip r:embed="rId1"/>
          <a:srcRect l="0" t="3756" r="0" b="286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ypes of tax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 is a fee charged by the government on income or price of a goo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tax is charged on income it is called direct tax and if it charged on the price of goods and services its known as indirect tax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ave you wondered from where government gets money to spend on building roads and bridges, parks, schools, hospitals, etc.?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y do we need to pay taxes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ur government has the responsibility to improve the  standard of living of our citize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need money to build roads, hospitals, parks and bridges etc. in our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ation generates this revenue which is used for all the above mentioned purpos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y paying taxes responsible citizens help their country grow and develop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8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2724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istor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arter System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Evolution of Money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iv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eeds and Want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ill/ Cash Mem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Geograph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enefits of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English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Radha and the Frog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Grandfather’s Coin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Mathemat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axatio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urturing the Money Plan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rter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58760" y="1224000"/>
            <a:ext cx="3949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xchange of goods and services by one person in return for goods and services from</a:t>
            </a:r>
            <a:r>
              <a:rPr b="1" lang="en-US" sz="2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other person is called barter syste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s system existed when there was no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iculties existed under the barter system; like double coincidence of wa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5" name="Picture 4" descr="Jacksonville-Barter-Exchange-Trading.jpg"/>
          <p:cNvPicPr/>
          <p:nvPr/>
        </p:nvPicPr>
        <p:blipFill>
          <a:blip r:embed="rId1"/>
          <a:stretch/>
        </p:blipFill>
        <p:spPr>
          <a:xfrm>
            <a:off x="5092560" y="1982880"/>
            <a:ext cx="3835440" cy="236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volution of Mone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ople were engaged in bart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goods to be exchanged were not necessarily of the same val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was also difficult to store goods, particularly perishable ones like fish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discovery of metal solved many of these difficulties and it begun to be used as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Long evolution proces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mall metal pieces, with fixed weight and value and bearing an official seal appeared in 6</a:t>
            </a:r>
            <a:r>
              <a:rPr b="1" lang="en-US" sz="2000" spc="-1" strike="noStrike" baseline="30000">
                <a:solidFill>
                  <a:srgbClr val="507800"/>
                </a:solidFill>
                <a:latin typeface="Verdana"/>
              </a:rPr>
              <a:t>th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century B.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dominantly gold and silver were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uring the Mauryan period copper was also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ing Sher Shah Suri issued a silver coin and termed it as ‘Rupiya’. The word is said to be derived from the Sanskrit word ‘Rupya’ which means a coin of silv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Rupee as we see toda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arliest issue of rupee in the form of paper currency was by the Bank of Hindusta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ndependence, followed by accession of princely states to the new union, Reserve Bank of India issued Indian National Rupee (INR) notes on behalf of the Governme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dian rupee now has a universally recognized symbol since the year 2010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ymbol: Major Currenci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83" name="Content Placeholder 5" descr="CURRENCE2.png"/>
          <p:cNvPicPr/>
          <p:nvPr/>
        </p:nvPicPr>
        <p:blipFill>
          <a:blip r:embed="rId1"/>
          <a:stretch/>
        </p:blipFill>
        <p:spPr>
          <a:xfrm>
            <a:off x="1378080" y="990720"/>
            <a:ext cx="6472080" cy="4636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want-need-apple.jpg"/>
          <p:cNvPicPr/>
          <p:nvPr/>
        </p:nvPicPr>
        <p:blipFill>
          <a:blip r:embed="rId1"/>
          <a:stretch/>
        </p:blipFill>
        <p:spPr>
          <a:xfrm>
            <a:off x="1450800" y="5383080"/>
            <a:ext cx="3326040" cy="12844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eds and Wa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Need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re things that we must have in order to survive - things we truly can’t be withou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Want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n the other hand, are things that we would like to have, but that are not necessary for surviva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needs and wants don’t cost any money at all: like air. Many needs and wants, however, cost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should cater to your needs first, before you can buy the things you wa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sk for a bill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bill offers protection and benefits to both buyer and sell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you don’t have the bill and the item you have purchased turns out to be faulty, you lose the right to complain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shopkeepers on their own won’t insist on giving you a bill as they want to avoid paying tax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very time you make a purchase or make any payments ask for a bil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36Z</dcterms:modified>
  <cp:revision>9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