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7D98-6CC9-4B14-8079-FB5FFCC6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F4AF-D58C-4D23-97C4-B6420DE4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4553-B7CD-46F8-821B-B480D7B9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DE32-4AAC-4BFD-8599-F0E2533E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051E-6B40-4506-A430-5D4614DD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6360-DAC5-461E-B318-2747A4B5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2EB2-7725-493E-B10D-C25AAAE7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3F5B-6EDD-42B5-ADD5-876F1D8B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B4B9-5554-4603-B060-3755B82B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12DB-E0CD-48FC-990B-578EFBB7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5161-08C7-4CB8-A0AE-4A421CE8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D801-118B-4796-A474-B7BF2DAA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00AB-443A-4F7C-9C21-F45724C2EA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licyholder.gov.in/" TargetMode="External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X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w initiatives for the Policyholder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2" name="Text Placeholder 3"/>
          <p:cNvSpPr/>
          <p:nvPr/>
        </p:nvSpPr>
        <p:spPr>
          <a:xfrm>
            <a:off x="380880" y="68580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Demand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51920" y="14475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Integrated Grievance Management System (IGMS) offers an online system to register the complaints of the policyholder  through IRDAI call centre.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elps to track the status of the complaint on real time basis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all Centre educates the policyholders on available grievance redressal mechanism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regulator has launched an exclusive consumer education website </a:t>
            </a:r>
            <a:r>
              <a:rPr b="1" lang="en-US" sz="1800" spc="-1" strike="noStrike" u="sng">
                <a:solidFill>
                  <a:srgbClr val="bad16f"/>
                </a:solidFill>
                <a:uFillTx/>
                <a:latin typeface="Verdana"/>
                <a:hlinkClick r:id="rId1"/>
              </a:rPr>
              <a:t>www.policyholder.gov.in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4" name="Text Placeholder 5"/>
          <p:cNvSpPr/>
          <p:nvPr/>
        </p:nvSpPr>
        <p:spPr>
          <a:xfrm>
            <a:off x="4648320" y="6858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Supply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1907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ers have developed innovative insurance policies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ternet purchase of policy  saves the client from paying any commission to the traditional agent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internet has made the service easily accessible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ople working at the back-end office, call centre are trained to provide correct information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processes have become customer friendly due to the speed and accuracy of service delivery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romotion through web aggregators and SMS technology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policies can be stored in electronic form (e-Policies)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8760" y="1923840"/>
            <a:ext cx="712152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Insurance Ombudsman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he Schem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Insurance Ombudsman scheme was created by Government of India for individual policyholders to have their complaints settled out of the courts syst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mplaints are settled in a cost-effective, efficient and impartial wa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12 Ombudsman Centres, covering the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approach the insurance Ombudsman if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. Insurance company does not resolve the complaint    after approaching th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. The complaint is not resolved to the satisfaction of   policyhold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i. the insurer has not at  responded to it for 30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74600" y="2097000"/>
            <a:ext cx="7121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Commodity Futures Marke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Marke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place where forces of demand (buyer) and supply (seller) operate or interact (directly or through intermediaries) to trade goods, services or contracts or instruments, fo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94" name="Diagram 4" descr=""/>
          <p:cNvPicPr/>
          <p:nvPr/>
        </p:nvPicPr>
        <p:blipFill>
          <a:blip r:embed="rId1"/>
          <a:stretch/>
        </p:blipFill>
        <p:spPr>
          <a:xfrm>
            <a:off x="4651200" y="3286080"/>
            <a:ext cx="4035600" cy="287028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5"/>
          <p:cNvGrpSpPr/>
          <p:nvPr/>
        </p:nvGrpSpPr>
        <p:grpSpPr>
          <a:xfrm>
            <a:off x="5410080" y="2057400"/>
            <a:ext cx="2438640" cy="1177920"/>
            <a:chOff x="5410080" y="2057400"/>
            <a:chExt cx="2438640" cy="1177920"/>
          </a:xfrm>
        </p:grpSpPr>
        <p:sp>
          <p:nvSpPr>
            <p:cNvPr id="596" name="Rounded Rectangle 6"/>
            <p:cNvSpPr/>
            <p:nvPr/>
          </p:nvSpPr>
          <p:spPr>
            <a:xfrm>
              <a:off x="5410080" y="2057400"/>
              <a:ext cx="2438640" cy="1177920"/>
            </a:xfrm>
            <a:prstGeom prst="roundRect">
              <a:avLst>
                <a:gd name="adj" fmla="val 10000"/>
              </a:avLst>
            </a:prstGeom>
            <a:solidFill>
              <a:srgbClr val="839e2f">
                <a:alpha val="90000"/>
              </a:srgbClr>
            </a:solidFill>
            <a:ln w="25560">
              <a:solidFill>
                <a:srgbClr val="8fad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ounded Rectangle 4"/>
            <p:cNvSpPr/>
            <p:nvPr/>
          </p:nvSpPr>
          <p:spPr>
            <a:xfrm>
              <a:off x="5454360" y="2092320"/>
              <a:ext cx="23497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Rectangle 8"/>
          <p:cNvSpPr/>
          <p:nvPr/>
        </p:nvSpPr>
        <p:spPr>
          <a:xfrm>
            <a:off x="5659560" y="2160720"/>
            <a:ext cx="20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ments of Commodities Mar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orward Contrac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ward contract is a derivative contrac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rivative contract is an enforceable agreement whose value is derived from the value of an underlying ass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underlying asset can be a commodity, currency, bond, stock, or, indices of commodities, stocks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utures or Hedge Contr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utures contract is one type of forward contract and are highly standardize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traded on recognized Commodity Exchan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generally used for protecting against risk of adverse price fluctua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articipants in commodity futures markets are Hedgers, Speculators and Arbitrageu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2365200"/>
            <a:ext cx="712152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conomic Depression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conomic Depres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conomic recession means general decline in economic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part of business cyc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recession is generally characterized by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GDP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Industrial Outpu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igher Unemploymen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people’s spending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74600" y="2190240"/>
            <a:ext cx="712152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Investing in Shares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06640" y="2222640"/>
            <a:ext cx="724824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lectronic Commer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sic Concep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46040" y="1592280"/>
            <a:ext cx="401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quity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ce value of a shar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rket Valu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mium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idend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1" name="Content Placeholder 6"/>
          <p:cNvSpPr/>
          <p:nvPr/>
        </p:nvSpPr>
        <p:spPr>
          <a:xfrm>
            <a:off x="4446720" y="1655640"/>
            <a:ext cx="43560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t worth of the comp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original value of sto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urrent value at which each stock tr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erence between market value and face valu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hare of profit received in proportion of one’s sharehold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nitial Public Offering (IPO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14520" y="1209600"/>
            <a:ext cx="785160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itial offering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ered merchant bank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re responsible for selling the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so investigate the company’s business and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verify the financial inform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given to the investo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company must file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ration state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ith the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is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ffer docu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ssued to the public to help them determine if they want to purchase the stock on off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PO’s final price is determined on the basis of all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id pric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otment of shares is made o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ful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ro-rata basi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ts price is determ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090440" y="2522160"/>
            <a:ext cx="712152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Benefits of Insuran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Individual and Societ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surance is an arrangement by which a person can plan for continuation of income for self, family or business, under uncertainty, old age or death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related to protection of human life and asse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ociety, it is an arrangement where many would contributes to mitigate losses of a few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reater longevity is achieved through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mproving living standards,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creasing productivity, and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ing quality healthcare accessib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fe insurance contracts are long term contrac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ors become the principal source of capital for the economy by investing their fund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on-life insurance provides cover to trade and industry against losses due to uncertaint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overnment gets the capital investment needed to finance physical and social infrastructure through insur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969920" y="2506320"/>
            <a:ext cx="5786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Learning to Trad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know before investing in stocks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074600" y="1288800"/>
            <a:ext cx="7121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ing in stocks is one of many options for investing you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comes with risk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en an account with a brokerage fir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ersify your invest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nsider an appropriate mix of stocks to inves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gain income from dividends paid by the compan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74600" y="2285640"/>
            <a:ext cx="712152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Stock Exchange and Economy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tock Exchang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trading facilities to investors through stock broke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ecurities traded on stock exchange include shares issued by companies, derivatives, debentures, bonds, et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ombay Stock Exchange (BSE) and National Stock Exchange (NSE) are major stock exchanges of Indi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help companies raise money to expan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the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61680" y="1209600"/>
            <a:ext cx="794556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play a vital role in functioning of the economy by providing the backbone to a nation’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conomic infrastructur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work as first level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ulato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ecurities mark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low any person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vest in any compani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greatest or smallest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rder and regul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to the process of stock trad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companies with the facility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aise capital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expansion through sale of shares to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elp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mobilize saving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rom households and redirect it to firms  to promote business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act a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arometer of the economy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 Commerc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type of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usiness mode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r a segment of a larger business model, that enables a firm or individual to do business over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lectronic network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typically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terne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 step ahead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mail-order purchasing through a catalog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offer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wide variety of product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d services. For example, clothes, books, financial services to train/plane ticke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mor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onvenien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method of shopping in terms of time and effor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pay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debit/credit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ash on deliv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58760" y="2238480"/>
            <a:ext cx="712152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Trading and DEMAT Accoun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o trade in stocks, one needs a trading and DEMAT accou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needs to understand the concepts related to trading and DEMAT account before opening on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gives one convenience to buy and sell shares from the comfort of his home/offic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allows the investors to retain shares purchased in electronic for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 f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open multiple demat accou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no account opening char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an have nil bal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058760" y="2174760"/>
            <a:ext cx="712152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SEBI Grievance Redressal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EBI Grievance Redressal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has developed a centralized web based system for lodging and tracking investor complaints is known as SCORES (SEBI Complaint Redress System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CORES can accept complaint against any market intermediary that is registered with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ntity or intermediary needs to send an action taken report in SCORES within a reasonable period not more than 30 day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tock exchanges are supposed to resolve disputes at their end within 15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is the regular income of the individual after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Benefit Pension plan is one in which a specified monthly benefit (payment) is available on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Contribution Pension plan is one in which the pension amount is dependent upon the aggregated retirement corpus which in turn is determined by the amount of individual contribu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Fund Regulatory and Development Authority was established by Government of India on 10 October 2003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Atal Bima Yojana is primarily focussed on all citizens in the unorganized sector, administered by PFRD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citizens of age 18 to 40 can open account under National Pension System (NPS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58760" y="1985760"/>
            <a:ext cx="7121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7800"/>
                </a:solidFill>
                <a:latin typeface="Verdana"/>
              </a:rPr>
              <a:t>Beware!!</a:t>
            </a:r>
            <a:endParaRPr b="1" lang="en-US" sz="4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be taken care of while using         e-Commerce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need to take certain safety precautions while transacting onl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you need to be careful about i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redit card borrowing limi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pams (unsolicited bulk business emails)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ailability of data pertaining to business on the online shopping website (street address, phone number of the company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ivacy policy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ock icon on the status bar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lect websites starting with “https:”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eep records regarding all your online transactio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Verify claims and be aware of False claim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ATM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atch f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uspicious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ATM machine to avoid data leakag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Number of person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in ATM room should not be more than number of working ATM machin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on’t let anybody notice you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TM PI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eek assistance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nly from the security guard in case of your card getting struck in the ATM machine. Do not seek help from stranger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For POS transactions using ATM/Debit card and Internet banking: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hile transacting at merchant establishment (POS), keep eyes on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erson swiping the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nd alway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nter the PIN yourself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ublic computer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ke Cyber café for any e-commerce transactions/internet bank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e sure that your PC ha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latest antiviru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anti-malware, personal firewall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ver respond to any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mail asking for your account credentia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PIN, expiry date, card number, etc.)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ishing mai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bout lott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rase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VV numb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backside of the card and memorize it or store it confidentiall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one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unless the device is sec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460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inancial Regulatory Bodies in India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76360" y="1135080"/>
            <a:ext cx="563868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The apex monetary and banking institution in India. India’s central bank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n autonomous statutory body  that protects investor’s interest in the securities market, promotes development of, and regulates securities and commodities markets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and develops insurance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the pension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0" name="Text Placeholder 3"/>
          <p:cNvSpPr/>
          <p:nvPr/>
        </p:nvSpPr>
        <p:spPr>
          <a:xfrm>
            <a:off x="228600" y="1282680"/>
            <a:ext cx="312408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Reserve Bank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pril 1, 19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Securities and Exchange Board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1988 | SEBI Act 199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Regulatory and Development Authority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nsion Fund Regulatory and Development Auth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ugust 23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11Z</dcterms:modified>
  <cp:revision>12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