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  <p:sldId id="284" r:id="rId44"/>
    <p:sldId id="285" r:id="rId45"/>
    <p:sldId id="286" r:id="rId46"/>
    <p:sldId id="287" r:id="rId47"/>
    <p:sldId id="288" r:id="rId48"/>
    <p:sldId id="289" r:id="rId49"/>
    <p:sldId id="290" r:id="rId50"/>
    <p:sldId id="291" r:id="rId51"/>
    <p:sldId id="292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slide" Target="slides/slide29.xml"/><Relationship Id="rId45" Type="http://schemas.openxmlformats.org/officeDocument/2006/relationships/slide" Target="slides/slide30.xml"/><Relationship Id="rId46" Type="http://schemas.openxmlformats.org/officeDocument/2006/relationships/slide" Target="slides/slide31.xml"/><Relationship Id="rId47" Type="http://schemas.openxmlformats.org/officeDocument/2006/relationships/slide" Target="slides/slide32.xml"/><Relationship Id="rId48" Type="http://schemas.openxmlformats.org/officeDocument/2006/relationships/slide" Target="slides/slide33.xml"/><Relationship Id="rId49" Type="http://schemas.openxmlformats.org/officeDocument/2006/relationships/slide" Target="slides/slide34.xml"/><Relationship Id="rId50" Type="http://schemas.openxmlformats.org/officeDocument/2006/relationships/slide" Target="slides/slide35.xml"/><Relationship Id="rId51" Type="http://schemas.openxmlformats.org/officeDocument/2006/relationships/slide" Target="slides/slide36.xml"/><Relationship Id="rId52" Type="http://schemas.openxmlformats.org/officeDocument/2006/relationships/slide" Target="slides/slide37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B591C-A6D3-4395-93A0-619EAB21E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A7893-F602-4F29-9DD4-6663700B6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AC1FB-EA01-463C-8A0D-40A23D08F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52A06-119A-42D0-959D-EBAEFA308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4B62C-6AC0-4F28-9CA9-CF5CC821A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73648-0BAA-4025-920A-1319A65B2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2ACBF-7D01-4858-99CC-313C2B120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5E69C-49A0-4CA6-9CA6-3695C34DF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FB656-6A12-4A7D-BCAC-4AC7CC545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F24FD-25C7-45E1-8087-3E5439C13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3545F-2F00-4860-9579-161D791BA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9669D-6256-4091-B738-B7216AE39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Click to edit the outline text format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fad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con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5078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ir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our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if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ix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ven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177840" y="6365520"/>
            <a:ext cx="19461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Picture 8" descr="ncfe logo 2.png"/>
          <p:cNvPicPr/>
          <p:nvPr/>
        </p:nvPicPr>
        <p:blipFill>
          <a:blip r:embed="rId3"/>
          <a:stretch/>
        </p:blipFill>
        <p:spPr>
          <a:xfrm>
            <a:off x="8405640" y="103320"/>
            <a:ext cx="597240" cy="595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Picture 8" descr="ncfe logo 2.png"/>
          <p:cNvPicPr/>
          <p:nvPr/>
        </p:nvPicPr>
        <p:blipFill>
          <a:blip r:embed="rId3"/>
          <a:stretch/>
        </p:blipFill>
        <p:spPr>
          <a:xfrm>
            <a:off x="8405640" y="103320"/>
            <a:ext cx="597240" cy="595080"/>
          </a:xfrm>
          <a:prstGeom prst="rect">
            <a:avLst/>
          </a:prstGeom>
          <a:ln w="0">
            <a:noFill/>
          </a:ln>
        </p:spPr>
      </p:pic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Click to edit the outline text format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fad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con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5078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ir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our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if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ix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ven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 type="ftr" idx="13"/>
          </p:nvPr>
        </p:nvSpPr>
        <p:spPr>
          <a:xfrm>
            <a:off x="177840" y="6365520"/>
            <a:ext cx="19461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Picture 8" descr="ncfe logo 2.png"/>
          <p:cNvPicPr/>
          <p:nvPr/>
        </p:nvPicPr>
        <p:blipFill>
          <a:blip r:embed="rId3"/>
          <a:stretch/>
        </p:blipFill>
        <p:spPr>
          <a:xfrm>
            <a:off x="8405640" y="103320"/>
            <a:ext cx="597240" cy="595080"/>
          </a:xfrm>
          <a:prstGeom prst="rect">
            <a:avLst/>
          </a:prstGeom>
          <a:ln w="0">
            <a:noFill/>
          </a:ln>
        </p:spPr>
      </p:pic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Click to edit the outline text format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fad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con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5078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ir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our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if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ix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ven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 type="ftr" idx="14"/>
          </p:nvPr>
        </p:nvSpPr>
        <p:spPr>
          <a:xfrm>
            <a:off x="177840" y="6365520"/>
            <a:ext cx="19461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Picture 8" descr="ncfe logo 2.png"/>
          <p:cNvPicPr/>
          <p:nvPr/>
        </p:nvPicPr>
        <p:blipFill>
          <a:blip r:embed="rId3"/>
          <a:stretch/>
        </p:blipFill>
        <p:spPr>
          <a:xfrm>
            <a:off x="8405640" y="103320"/>
            <a:ext cx="597240" cy="595080"/>
          </a:xfrm>
          <a:prstGeom prst="rect">
            <a:avLst/>
          </a:prstGeom>
          <a:ln w="0">
            <a:noFill/>
          </a:ln>
        </p:spPr>
      </p:pic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Click to edit the outline text format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fad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con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5078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ir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our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if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ix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ven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 type="ftr" idx="15"/>
          </p:nvPr>
        </p:nvSpPr>
        <p:spPr>
          <a:xfrm>
            <a:off x="177840" y="6365520"/>
            <a:ext cx="19461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1" name="Picture 8" descr="ncfe logo 2.png"/>
          <p:cNvPicPr/>
          <p:nvPr/>
        </p:nvPicPr>
        <p:blipFill>
          <a:blip r:embed="rId3"/>
          <a:stretch/>
        </p:blipFill>
        <p:spPr>
          <a:xfrm>
            <a:off x="8405640" y="103320"/>
            <a:ext cx="597240" cy="595080"/>
          </a:xfrm>
          <a:prstGeom prst="rect">
            <a:avLst/>
          </a:prstGeom>
          <a:ln w="0">
            <a:noFill/>
          </a:ln>
        </p:spPr>
      </p:pic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Click to edit the outline text format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fad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con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5078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ir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our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if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ix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ven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 type="ftr" idx="16"/>
          </p:nvPr>
        </p:nvSpPr>
        <p:spPr>
          <a:xfrm>
            <a:off x="177840" y="6365520"/>
            <a:ext cx="19461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1" name="Picture 8" descr="ncfe logo 2.png"/>
          <p:cNvPicPr/>
          <p:nvPr/>
        </p:nvPicPr>
        <p:blipFill>
          <a:blip r:embed="rId3"/>
          <a:stretch/>
        </p:blipFill>
        <p:spPr>
          <a:xfrm>
            <a:off x="8405640" y="103320"/>
            <a:ext cx="597240" cy="595080"/>
          </a:xfrm>
          <a:prstGeom prst="rect">
            <a:avLst/>
          </a:prstGeom>
          <a:ln w="0">
            <a:noFill/>
          </a:ln>
        </p:spPr>
      </p:pic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Click to edit the outline text format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fad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con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5078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ir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our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if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ix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ven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 type="ftr" idx="17"/>
          </p:nvPr>
        </p:nvSpPr>
        <p:spPr>
          <a:xfrm>
            <a:off x="177840" y="6365520"/>
            <a:ext cx="19461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Click to edit the outline text format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fad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con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5078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ir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our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if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ix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ven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2"/>
          </p:nvPr>
        </p:nvSpPr>
        <p:spPr>
          <a:xfrm>
            <a:off x="456840" y="6524280"/>
            <a:ext cx="213372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3"/>
          </p:nvPr>
        </p:nvSpPr>
        <p:spPr>
          <a:xfrm>
            <a:off x="3452400" y="6494400"/>
            <a:ext cx="289548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5078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07800"/>
                </a:solidFill>
                <a:latin typeface="Times New Roman"/>
              </a:rPr>
              <a:t>Company Lo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A9F44-9AE5-4ED2-A918-5E74BA0A0B3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8" descr="ncfe logo 2.png"/>
          <p:cNvPicPr/>
          <p:nvPr/>
        </p:nvPicPr>
        <p:blipFill>
          <a:blip r:embed="rId3"/>
          <a:stretch/>
        </p:blipFill>
        <p:spPr>
          <a:xfrm>
            <a:off x="8405640" y="103320"/>
            <a:ext cx="597240" cy="59508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Click to edit the outline text format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fad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con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5078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ir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our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if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ix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ven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ftr" idx="7"/>
          </p:nvPr>
        </p:nvSpPr>
        <p:spPr>
          <a:xfrm>
            <a:off x="177840" y="6365520"/>
            <a:ext cx="19461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8" descr="ncfe logo 2.png"/>
          <p:cNvPicPr/>
          <p:nvPr/>
        </p:nvPicPr>
        <p:blipFill>
          <a:blip r:embed="rId3"/>
          <a:stretch/>
        </p:blipFill>
        <p:spPr>
          <a:xfrm>
            <a:off x="8405640" y="103320"/>
            <a:ext cx="597240" cy="59508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Click to edit the outline text format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fad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con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5078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ir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our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if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ix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ven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ftr" idx="8"/>
          </p:nvPr>
        </p:nvSpPr>
        <p:spPr>
          <a:xfrm>
            <a:off x="177840" y="6365520"/>
            <a:ext cx="19461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8" descr="ncfe logo 2.png"/>
          <p:cNvPicPr/>
          <p:nvPr/>
        </p:nvPicPr>
        <p:blipFill>
          <a:blip r:embed="rId3"/>
          <a:stretch/>
        </p:blipFill>
        <p:spPr>
          <a:xfrm>
            <a:off x="8405640" y="103320"/>
            <a:ext cx="597240" cy="595080"/>
          </a:xfrm>
          <a:prstGeom prst="rect">
            <a:avLst/>
          </a:prstGeom>
          <a:ln w="0">
            <a:noFill/>
          </a:ln>
        </p:spPr>
      </p:pic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Click to edit the outline text format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fad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con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5078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ir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our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if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ix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ven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ftr" idx="9"/>
          </p:nvPr>
        </p:nvSpPr>
        <p:spPr>
          <a:xfrm>
            <a:off x="177840" y="6365520"/>
            <a:ext cx="19461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8" descr="ncfe logo 2.png"/>
          <p:cNvPicPr/>
          <p:nvPr/>
        </p:nvPicPr>
        <p:blipFill>
          <a:blip r:embed="rId3"/>
          <a:stretch/>
        </p:blipFill>
        <p:spPr>
          <a:xfrm>
            <a:off x="8405640" y="103320"/>
            <a:ext cx="597240" cy="595080"/>
          </a:xfrm>
          <a:prstGeom prst="rect">
            <a:avLst/>
          </a:prstGeom>
          <a:ln w="0">
            <a:noFill/>
          </a:ln>
        </p:spPr>
      </p:pic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Click to edit the outline text format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fad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con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5078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ir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our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if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ix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ven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ftr" idx="10"/>
          </p:nvPr>
        </p:nvSpPr>
        <p:spPr>
          <a:xfrm>
            <a:off x="177840" y="6365520"/>
            <a:ext cx="19461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Picture 8" descr="ncfe logo 2.png"/>
          <p:cNvPicPr/>
          <p:nvPr/>
        </p:nvPicPr>
        <p:blipFill>
          <a:blip r:embed="rId3"/>
          <a:stretch/>
        </p:blipFill>
        <p:spPr>
          <a:xfrm>
            <a:off x="8405640" y="103320"/>
            <a:ext cx="597240" cy="595080"/>
          </a:xfrm>
          <a:prstGeom prst="rect">
            <a:avLst/>
          </a:prstGeom>
          <a:ln w="0">
            <a:noFill/>
          </a:ln>
        </p:spPr>
      </p:pic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Click to edit the outline text format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fad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con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5078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ir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our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if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ix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ven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 type="ftr" idx="11"/>
          </p:nvPr>
        </p:nvSpPr>
        <p:spPr>
          <a:xfrm>
            <a:off x="177840" y="6365520"/>
            <a:ext cx="19461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Picture 8" descr="ncfe logo 2.png"/>
          <p:cNvPicPr/>
          <p:nvPr/>
        </p:nvPicPr>
        <p:blipFill>
          <a:blip r:embed="rId3"/>
          <a:stretch/>
        </p:blipFill>
        <p:spPr>
          <a:xfrm>
            <a:off x="8405640" y="103320"/>
            <a:ext cx="597240" cy="595080"/>
          </a:xfrm>
          <a:prstGeom prst="rect">
            <a:avLst/>
          </a:prstGeom>
          <a:ln w="0">
            <a:noFill/>
          </a:ln>
        </p:spPr>
      </p:pic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Click to edit the outline text format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fad2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con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5078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ird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our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if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ix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4d4d4d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venth Outline Level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 type="ftr" idx="12"/>
          </p:nvPr>
        </p:nvSpPr>
        <p:spPr>
          <a:xfrm>
            <a:off x="177840" y="6365520"/>
            <a:ext cx="19461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ompany Lo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policyholder.gov.in/" TargetMode="External"/><Relationship Id="rId2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47640" y="2811240"/>
            <a:ext cx="784872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39e2f"/>
                </a:solidFill>
                <a:latin typeface="Verdana"/>
              </a:rPr>
              <a:t>Financial Education </a:t>
            </a:r>
            <a:endParaRPr b="1" lang="en-US" sz="40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2759040" y="3509640"/>
            <a:ext cx="362592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7800"/>
                </a:solidFill>
                <a:latin typeface="Verdana"/>
              </a:rPr>
              <a:t>Class X</a:t>
            </a:r>
            <a:endParaRPr b="1" lang="en-US" sz="3200" spc="-1" strike="noStrike">
              <a:solidFill>
                <a:srgbClr val="507800"/>
              </a:solidFill>
              <a:latin typeface="Verdana"/>
            </a:endParaRPr>
          </a:p>
        </p:txBody>
      </p:sp>
      <p:pic>
        <p:nvPicPr>
          <p:cNvPr id="563" name="Picture 7" descr=""/>
          <p:cNvPicPr/>
          <p:nvPr/>
        </p:nvPicPr>
        <p:blipFill>
          <a:blip r:embed="rId1"/>
          <a:stretch/>
        </p:blipFill>
        <p:spPr>
          <a:xfrm>
            <a:off x="3405240" y="425520"/>
            <a:ext cx="2097000" cy="22572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New initiatives for the Policyholder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582" name="Text Placeholder 3"/>
          <p:cNvSpPr/>
          <p:nvPr/>
        </p:nvSpPr>
        <p:spPr>
          <a:xfrm>
            <a:off x="380880" y="685800"/>
            <a:ext cx="40402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07800"/>
                </a:solidFill>
                <a:latin typeface="Verdana"/>
              </a:rPr>
              <a:t>Demand Si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3" name=""/>
          <p:cNvSpPr txBox="1"/>
          <p:nvPr/>
        </p:nvSpPr>
        <p:spPr>
          <a:xfrm>
            <a:off x="151920" y="1447560"/>
            <a:ext cx="39625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07800"/>
                </a:solidFill>
                <a:latin typeface="Verdana"/>
              </a:rPr>
              <a:t>The Integrated Grievance Management System (IGMS) offers an online system to register the complaints of the policyholder  through IRDAI call centre.</a:t>
            </a:r>
            <a:endParaRPr b="1" lang="en-US" sz="18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07800"/>
                </a:solidFill>
                <a:latin typeface="Verdana"/>
              </a:rPr>
              <a:t>Helps to track the status of the complaint on real time basis. </a:t>
            </a:r>
            <a:endParaRPr b="1" lang="en-US" sz="18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07800"/>
                </a:solidFill>
                <a:latin typeface="Verdana"/>
              </a:rPr>
              <a:t>Call Centre educates the policyholders on available grievance redressal mechanism. </a:t>
            </a:r>
            <a:endParaRPr b="1" lang="en-US" sz="18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07800"/>
                </a:solidFill>
                <a:latin typeface="Verdana"/>
              </a:rPr>
              <a:t>The regulator has launched an exclusive consumer education website </a:t>
            </a:r>
            <a:r>
              <a:rPr b="1" lang="en-US" sz="1800" spc="-1" strike="noStrike" u="sng">
                <a:solidFill>
                  <a:srgbClr val="bad16f"/>
                </a:solidFill>
                <a:uFillTx/>
                <a:latin typeface="Verdana"/>
                <a:hlinkClick r:id="rId1"/>
              </a:rPr>
              <a:t>www.policyholder.gov.in</a:t>
            </a:r>
            <a:r>
              <a:rPr b="1" lang="en-US" sz="1800" spc="-1" strike="noStrike">
                <a:solidFill>
                  <a:srgbClr val="507800"/>
                </a:solidFill>
                <a:latin typeface="Verdana"/>
              </a:rPr>
              <a:t> </a:t>
            </a:r>
            <a:endParaRPr b="1" lang="en-US" sz="18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584" name="Text Placeholder 5"/>
          <p:cNvSpPr/>
          <p:nvPr/>
        </p:nvSpPr>
        <p:spPr>
          <a:xfrm>
            <a:off x="4648320" y="685800"/>
            <a:ext cx="40417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07800"/>
                </a:solidFill>
                <a:latin typeface="Verdana"/>
              </a:rPr>
              <a:t>Supply Si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5" name=""/>
          <p:cNvSpPr txBox="1"/>
          <p:nvPr/>
        </p:nvSpPr>
        <p:spPr>
          <a:xfrm>
            <a:off x="4190760" y="1371240"/>
            <a:ext cx="47242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00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07800"/>
                </a:solidFill>
                <a:latin typeface="Verdana"/>
              </a:rPr>
              <a:t>Insurers have developed innovative insurance policies. </a:t>
            </a:r>
            <a:endParaRPr b="1" lang="en-US" sz="16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00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07800"/>
                </a:solidFill>
                <a:latin typeface="Verdana"/>
              </a:rPr>
              <a:t>Internet purchase of policy  saves the client from paying any commission to the traditional agent. </a:t>
            </a:r>
            <a:endParaRPr b="1" lang="en-US" sz="16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00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07800"/>
                </a:solidFill>
                <a:latin typeface="Verdana"/>
              </a:rPr>
              <a:t>The internet has made the service easily accessible. </a:t>
            </a:r>
            <a:endParaRPr b="1" lang="en-US" sz="16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00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07800"/>
                </a:solidFill>
                <a:latin typeface="Verdana"/>
              </a:rPr>
              <a:t>People working at the back-end office, call centre are trained to provide correct information. </a:t>
            </a:r>
            <a:endParaRPr b="1" lang="en-US" sz="16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00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07800"/>
                </a:solidFill>
                <a:latin typeface="Verdana"/>
              </a:rPr>
              <a:t>The processes have become customer friendly due to the speed and accuracy of service delivery.</a:t>
            </a:r>
            <a:endParaRPr b="1" lang="en-US" sz="16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00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07800"/>
                </a:solidFill>
                <a:latin typeface="Verdana"/>
              </a:rPr>
              <a:t>Promotion through web aggregators and SMS technology. </a:t>
            </a:r>
            <a:endParaRPr b="1" lang="en-US" sz="16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00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07800"/>
                </a:solidFill>
                <a:latin typeface="Verdana"/>
              </a:rPr>
              <a:t>Insurance policies can be stored in electronic form (e-Policies).</a:t>
            </a:r>
            <a:endParaRPr b="1" lang="en-US" sz="16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587" name=""/>
          <p:cNvSpPr txBox="1"/>
          <p:nvPr/>
        </p:nvSpPr>
        <p:spPr>
          <a:xfrm>
            <a:off x="1058760" y="1923840"/>
            <a:ext cx="7121520" cy="187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507800"/>
                </a:solidFill>
                <a:latin typeface="Verdana"/>
              </a:rPr>
              <a:t>Insurance Ombudsman</a:t>
            </a:r>
            <a:endParaRPr b="1" lang="en-US" sz="48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The Scheme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589" name=""/>
          <p:cNvSpPr txBox="1"/>
          <p:nvPr/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e Insurance Ombudsman scheme was created by Government of India for individual policyholders to have their complaints settled out of the courts system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29040" indent="-329040" algn="just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Complaints are settled in a cost-effective, efficient and impartial way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29040" indent="-329040" algn="just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ere are 12 Ombudsman Centres, covering the country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29040" indent="-329040" algn="just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One can approach the insurance Ombudsman if-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29040" indent="-32904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     </a:t>
            </a: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i. Insurance company does not resolve the complaint    after approaching them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29040" indent="-32904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     </a:t>
            </a: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ii. The complaint is not resolved to the satisfaction of   policyholder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29040" indent="-32904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     </a:t>
            </a: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iii. the insurer has not at  responded to it for 30 days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591" name=""/>
          <p:cNvSpPr txBox="1"/>
          <p:nvPr/>
        </p:nvSpPr>
        <p:spPr>
          <a:xfrm>
            <a:off x="1074600" y="2097000"/>
            <a:ext cx="7121520" cy="16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07800"/>
                </a:solidFill>
                <a:latin typeface="Verdana"/>
              </a:rPr>
              <a:t>Commodity Futures Market</a:t>
            </a:r>
            <a:endParaRPr b="1" lang="en-US" sz="44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Market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593" name=""/>
          <p:cNvSpPr txBox="1"/>
          <p:nvPr/>
        </p:nvSpPr>
        <p:spPr>
          <a:xfrm>
            <a:off x="380520" y="1676160"/>
            <a:ext cx="40388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    </a:t>
            </a: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A place where forces of demand (buyer) and supply (seller) operate or interact (directly or through intermediaries) to trade goods, services or contracts or instruments, for money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pic>
        <p:nvPicPr>
          <p:cNvPr id="594" name="Diagram 4" descr=""/>
          <p:cNvPicPr/>
          <p:nvPr/>
        </p:nvPicPr>
        <p:blipFill>
          <a:blip r:embed="rId1"/>
          <a:stretch/>
        </p:blipFill>
        <p:spPr>
          <a:xfrm>
            <a:off x="4651200" y="3286080"/>
            <a:ext cx="4035600" cy="2870280"/>
          </a:xfrm>
          <a:prstGeom prst="rect">
            <a:avLst/>
          </a:prstGeom>
          <a:ln w="0">
            <a:noFill/>
          </a:ln>
        </p:spPr>
      </p:pic>
      <p:grpSp>
        <p:nvGrpSpPr>
          <p:cNvPr id="595" name="Group 5"/>
          <p:cNvGrpSpPr/>
          <p:nvPr/>
        </p:nvGrpSpPr>
        <p:grpSpPr>
          <a:xfrm>
            <a:off x="5410080" y="2057400"/>
            <a:ext cx="2438640" cy="1177920"/>
            <a:chOff x="5410080" y="2057400"/>
            <a:chExt cx="2438640" cy="1177920"/>
          </a:xfrm>
        </p:grpSpPr>
        <p:sp>
          <p:nvSpPr>
            <p:cNvPr id="596" name="Rounded Rectangle 6"/>
            <p:cNvSpPr/>
            <p:nvPr/>
          </p:nvSpPr>
          <p:spPr>
            <a:xfrm>
              <a:off x="5410080" y="2057400"/>
              <a:ext cx="2438640" cy="1177920"/>
            </a:xfrm>
            <a:prstGeom prst="roundRect">
              <a:avLst>
                <a:gd name="adj" fmla="val 10000"/>
              </a:avLst>
            </a:prstGeom>
            <a:solidFill>
              <a:srgbClr val="839e2f">
                <a:alpha val="90000"/>
              </a:srgbClr>
            </a:solidFill>
            <a:ln w="25560">
              <a:solidFill>
                <a:srgbClr val="8fad2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Rounded Rectangle 4"/>
            <p:cNvSpPr/>
            <p:nvPr/>
          </p:nvSpPr>
          <p:spPr>
            <a:xfrm>
              <a:off x="5454360" y="2092320"/>
              <a:ext cx="2349720" cy="110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0600" rIns="30600" tIns="20160" bIns="20160" anchor="ctr">
              <a:noAutofit/>
            </a:bodyPr>
            <a:p>
              <a:pPr algn="ctr"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711360"/>
                  <a:tab algn="l" pos="1422360"/>
                  <a:tab algn="l" pos="2133720"/>
                  <a:tab algn="l" pos="2844720"/>
                  <a:tab algn="l" pos="3556080"/>
                  <a:tab algn="l" pos="4267080"/>
                  <a:tab algn="l" pos="4978440"/>
                  <a:tab algn="l" pos="5689440"/>
                  <a:tab algn="l" pos="6400800"/>
                  <a:tab algn="l" pos="7112160"/>
                  <a:tab algn="l" pos="7823160"/>
                  <a:tab algn="l" pos="8534520"/>
                  <a:tab algn="l" pos="9245520"/>
                  <a:tab algn="l" pos="9956880"/>
                  <a:tab algn="l" pos="1066788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98" name="Rectangle 8"/>
          <p:cNvSpPr/>
          <p:nvPr/>
        </p:nvSpPr>
        <p:spPr>
          <a:xfrm>
            <a:off x="5659560" y="2160720"/>
            <a:ext cx="2001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gments of Commodities Marke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Forward Contract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600" name=""/>
          <p:cNvSpPr txBox="1"/>
          <p:nvPr/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orward contract is a derivative contract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A derivative contract is an enforceable agreement whose value is derived from the value of an underlying asset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e underlying asset can be a commodity, currency, bond, stock, or, indices of commodities, stocks etc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Futures or Hedge Contracts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602" name=""/>
          <p:cNvSpPr txBox="1"/>
          <p:nvPr/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utures contract is one type of forward contract and are highly standardized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ey are traded on recognized Commodity Exchanges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ey are generally used for protecting against risk of adverse price fluctuation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Participants in commodity futures markets are Hedgers, Speculators and Arbitrageurs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604" name=""/>
          <p:cNvSpPr txBox="1"/>
          <p:nvPr/>
        </p:nvSpPr>
        <p:spPr>
          <a:xfrm>
            <a:off x="1058760" y="2365200"/>
            <a:ext cx="7121520" cy="12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07800"/>
                </a:solidFill>
                <a:latin typeface="Verdana"/>
              </a:rPr>
              <a:t>Economic Depression</a:t>
            </a:r>
            <a:endParaRPr b="1" lang="en-US" sz="44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Economic Depression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606" name=""/>
          <p:cNvSpPr txBox="1"/>
          <p:nvPr/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e economic recession means general decline in economic activity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It is a part of business cycle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e recession is generally characterized by: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Decline in GDP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Decline in Industrial Output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Higher Unemployment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Decline in people’s spending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608" name=""/>
          <p:cNvSpPr txBox="1"/>
          <p:nvPr/>
        </p:nvSpPr>
        <p:spPr>
          <a:xfrm>
            <a:off x="1074600" y="2190240"/>
            <a:ext cx="7121520" cy="100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07800"/>
                </a:solidFill>
                <a:latin typeface="Verdana"/>
              </a:rPr>
              <a:t>Investing in Shares</a:t>
            </a:r>
            <a:endParaRPr b="1" lang="en-US" sz="44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565" name=""/>
          <p:cNvSpPr txBox="1"/>
          <p:nvPr/>
        </p:nvSpPr>
        <p:spPr>
          <a:xfrm>
            <a:off x="1106640" y="2222640"/>
            <a:ext cx="7248240" cy="102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07800"/>
                </a:solidFill>
                <a:latin typeface="Verdana"/>
              </a:rPr>
              <a:t>Electronic Commerce</a:t>
            </a:r>
            <a:endParaRPr b="1" lang="en-US" sz="4400" spc="-1" strike="noStrike">
              <a:solidFill>
                <a:srgbClr val="507800"/>
              </a:solidFill>
              <a:latin typeface="Verdana"/>
            </a:endParaRPr>
          </a:p>
          <a:p>
            <a:pPr marL="284400" indent="-2844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07800"/>
                </a:solidFill>
                <a:latin typeface="Verdana"/>
              </a:rPr>
              <a:t>E-commerce</a:t>
            </a:r>
            <a:endParaRPr b="1" lang="en-US" sz="24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Basic Concepts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610" name=""/>
          <p:cNvSpPr txBox="1"/>
          <p:nvPr/>
        </p:nvSpPr>
        <p:spPr>
          <a:xfrm>
            <a:off x="446040" y="1592280"/>
            <a:ext cx="401472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Equity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lnSpc>
                <a:spcPct val="260000"/>
              </a:lnSpc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ace value of a share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Market Value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Premium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Dividend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611" name="Content Placeholder 6"/>
          <p:cNvSpPr/>
          <p:nvPr/>
        </p:nvSpPr>
        <p:spPr>
          <a:xfrm>
            <a:off x="4446720" y="1655640"/>
            <a:ext cx="4356000" cy="44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5078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Net worth of the company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5078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5078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e original value of stock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5078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Current value at which each stock trades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5078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Difference between market value and face value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5078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e share of profit received in proportion of one’s shareholding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Initial Public Offering (IPO)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614520" y="1209600"/>
            <a:ext cx="7851600" cy="50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It is the </a:t>
            </a:r>
            <a:r>
              <a:rPr b="1" lang="en-US" sz="2000" spc="-1" strike="noStrike" u="sng">
                <a:solidFill>
                  <a:srgbClr val="507800"/>
                </a:solidFill>
                <a:uFillTx/>
                <a:latin typeface="Verdana"/>
              </a:rPr>
              <a:t>initial offering </a:t>
            </a: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of securities to the public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BI </a:t>
            </a:r>
            <a:r>
              <a:rPr b="1" lang="en-US" sz="2000" spc="-1" strike="noStrike" u="sng">
                <a:solidFill>
                  <a:srgbClr val="507800"/>
                </a:solidFill>
                <a:uFillTx/>
                <a:latin typeface="Verdana"/>
              </a:rPr>
              <a:t>registered merchant banker </a:t>
            </a: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are responsible for selling the securities to the public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ey also investigate the company’s business and </a:t>
            </a:r>
            <a:r>
              <a:rPr b="1" lang="en-US" sz="2000" spc="-1" strike="noStrike" u="sng">
                <a:solidFill>
                  <a:srgbClr val="507800"/>
                </a:solidFill>
                <a:uFillTx/>
                <a:latin typeface="Verdana"/>
              </a:rPr>
              <a:t>verify the financial information</a:t>
            </a: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 given to the investors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e company must file a </a:t>
            </a:r>
            <a:r>
              <a:rPr b="1" lang="en-US" sz="2000" spc="-1" strike="noStrike" u="sng">
                <a:solidFill>
                  <a:srgbClr val="507800"/>
                </a:solidFill>
                <a:uFillTx/>
                <a:latin typeface="Verdana"/>
              </a:rPr>
              <a:t>registration statement </a:t>
            </a: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with the SEBI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ere is an </a:t>
            </a:r>
            <a:r>
              <a:rPr b="1" lang="en-US" sz="2000" spc="-1" strike="noStrike" u="sng">
                <a:solidFill>
                  <a:srgbClr val="507800"/>
                </a:solidFill>
                <a:uFillTx/>
                <a:latin typeface="Verdana"/>
              </a:rPr>
              <a:t>offer document </a:t>
            </a: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issued to the public to help them determine if they want to purchase the stock on offer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IPO’s final price is determined on the basis of all the </a:t>
            </a:r>
            <a:r>
              <a:rPr b="1" lang="en-US" sz="2000" spc="-1" strike="noStrike" u="sng">
                <a:solidFill>
                  <a:srgbClr val="507800"/>
                </a:solidFill>
                <a:uFillTx/>
                <a:latin typeface="Verdana"/>
              </a:rPr>
              <a:t>bid prices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Allotment of shares is made on </a:t>
            </a:r>
            <a:r>
              <a:rPr b="1" lang="en-US" sz="2000" spc="-1" strike="noStrike" u="sng">
                <a:solidFill>
                  <a:srgbClr val="507800"/>
                </a:solidFill>
                <a:uFillTx/>
                <a:latin typeface="Verdana"/>
              </a:rPr>
              <a:t>full</a:t>
            </a: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 or </a:t>
            </a:r>
            <a:r>
              <a:rPr b="1" lang="en-US" sz="2000" spc="-1" strike="noStrike" u="sng">
                <a:solidFill>
                  <a:srgbClr val="507800"/>
                </a:solidFill>
                <a:uFillTx/>
                <a:latin typeface="Verdana"/>
              </a:rPr>
              <a:t>pro-rata basis </a:t>
            </a: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after its price is determine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1090440" y="2522160"/>
            <a:ext cx="7121520" cy="15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07800"/>
                </a:solidFill>
                <a:latin typeface="Verdana"/>
              </a:rPr>
              <a:t>Benefits of Insurance</a:t>
            </a:r>
            <a:endParaRPr b="1" lang="en-US" sz="44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Benefits to Individual and Society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Insurance is an arrangement by which a person can plan for continuation of income for self, family or business, under uncertainty, old age or death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It is related to protection of human life and assets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or society, it is an arrangement where many would contributes to mitigate losses of a few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Greater longevity is achieved through-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improving living standards,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increasing productivity, and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making quality healthcare accessible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Benefits to Economy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Life insurance contracts are long term contracts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Investors become the principal source of capital for the economy by investing their funds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Non-life insurance provides cover to trade and industry against losses due to uncertainties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Government gets the capital investment needed to finance physical and social infrastructure through insurance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1969920" y="2506320"/>
            <a:ext cx="5786640" cy="118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07800"/>
                </a:solidFill>
                <a:latin typeface="Verdana"/>
              </a:rPr>
              <a:t>Learning to Trade</a:t>
            </a:r>
            <a:endParaRPr b="1" lang="en-US" sz="44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be8b2"/>
                </a:solidFill>
                <a:latin typeface="Verdana"/>
              </a:rPr>
              <a:t>Things to know before investing in stocks</a:t>
            </a:r>
            <a:endParaRPr b="1" lang="en-US" sz="24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623" name=""/>
          <p:cNvSpPr txBox="1"/>
          <p:nvPr/>
        </p:nvSpPr>
        <p:spPr>
          <a:xfrm>
            <a:off x="1074600" y="1288800"/>
            <a:ext cx="7121520" cy="455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Investing in stocks is one of many options for investing your money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It comes with risk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Open an account with a brokerage firm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Diversify your investment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Consider an appropriate mix of stocks to invest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You gain income from dividends paid by the companies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32640" indent="-33264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625" name=""/>
          <p:cNvSpPr txBox="1"/>
          <p:nvPr/>
        </p:nvSpPr>
        <p:spPr>
          <a:xfrm>
            <a:off x="1074600" y="2285640"/>
            <a:ext cx="7121520" cy="19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507800"/>
                </a:solidFill>
                <a:latin typeface="Verdana"/>
              </a:rPr>
              <a:t>Stock Exchange and Economy</a:t>
            </a:r>
            <a:endParaRPr b="1" lang="en-US" sz="48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Stock Exchanges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627" name=""/>
          <p:cNvSpPr txBox="1"/>
          <p:nvPr/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ey provide trading facilities to investors through stock brokers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e securities traded on stock exchange include shares issued by companies, derivatives, debentures, bonds, etc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Bombay Stock Exchange (BSE) and National Stock Exchange (NSE) are major stock exchanges of India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tock exchanges help companies raise money to expand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Benefits to the Economy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629" name=""/>
          <p:cNvSpPr txBox="1"/>
          <p:nvPr/>
        </p:nvSpPr>
        <p:spPr>
          <a:xfrm>
            <a:off x="661680" y="1209600"/>
            <a:ext cx="7945560" cy="45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tock exchanges play a vital role in functioning of the economy by providing the backbone to a nation’s </a:t>
            </a:r>
            <a:r>
              <a:rPr b="1" lang="en-US" sz="2000" spc="-1" strike="noStrike" u="sng">
                <a:solidFill>
                  <a:srgbClr val="507800"/>
                </a:solidFill>
                <a:uFillTx/>
                <a:latin typeface="Verdana"/>
              </a:rPr>
              <a:t>economic infrastructure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ey work as first level </a:t>
            </a:r>
            <a:r>
              <a:rPr b="1" lang="en-US" sz="2000" spc="-1" strike="noStrike" u="sng">
                <a:solidFill>
                  <a:srgbClr val="507800"/>
                </a:solidFill>
                <a:uFillTx/>
                <a:latin typeface="Verdana"/>
              </a:rPr>
              <a:t>regulator </a:t>
            </a: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or securities market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ey allow any person to </a:t>
            </a:r>
            <a:r>
              <a:rPr b="1" lang="en-US" sz="2000" spc="-1" strike="noStrike" u="sng">
                <a:solidFill>
                  <a:srgbClr val="507800"/>
                </a:solidFill>
                <a:uFillTx/>
                <a:latin typeface="Verdana"/>
              </a:rPr>
              <a:t>invest in any companies </a:t>
            </a: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(greatest or smallest)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ey provide </a:t>
            </a:r>
            <a:r>
              <a:rPr b="1" lang="en-US" sz="2000" spc="-1" strike="noStrike" u="sng">
                <a:solidFill>
                  <a:srgbClr val="507800"/>
                </a:solidFill>
                <a:uFillTx/>
                <a:latin typeface="Verdana"/>
              </a:rPr>
              <a:t>order and regulation</a:t>
            </a: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 to the process of stock trading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ey provide companies with the facility to </a:t>
            </a:r>
            <a:r>
              <a:rPr b="1" lang="en-US" sz="2000" spc="-1" strike="noStrike" u="sng">
                <a:solidFill>
                  <a:srgbClr val="507800"/>
                </a:solidFill>
                <a:uFillTx/>
                <a:latin typeface="Verdana"/>
              </a:rPr>
              <a:t>raise capital </a:t>
            </a: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or expansion through sale of shares to public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Helps </a:t>
            </a:r>
            <a:r>
              <a:rPr b="1" lang="en-US" sz="2000" spc="-1" strike="noStrike" u="sng">
                <a:solidFill>
                  <a:srgbClr val="507800"/>
                </a:solidFill>
                <a:uFillTx/>
                <a:latin typeface="Verdana"/>
              </a:rPr>
              <a:t>mobilize savings </a:t>
            </a: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rom households and redirect it to firms  to promote business activity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tock exchanges act as a </a:t>
            </a:r>
            <a:r>
              <a:rPr b="1" lang="en-US" sz="2000" spc="-1" strike="noStrike" u="sng">
                <a:solidFill>
                  <a:srgbClr val="507800"/>
                </a:solidFill>
                <a:uFillTx/>
                <a:latin typeface="Verdana"/>
              </a:rPr>
              <a:t>barometer of the economy</a:t>
            </a: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E Commerce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567" name=""/>
          <p:cNvSpPr txBox="1"/>
          <p:nvPr/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It is a type of </a:t>
            </a:r>
            <a:r>
              <a:rPr b="1" lang="en-US" sz="2000" spc="-1" strike="noStrike" u="sng">
                <a:solidFill>
                  <a:srgbClr val="507800"/>
                </a:solidFill>
                <a:uFillTx/>
                <a:latin typeface="Verdana"/>
              </a:rPr>
              <a:t>business model</a:t>
            </a: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, or a segment of a larger business model, that enables a firm or individual to do business over an </a:t>
            </a:r>
            <a:r>
              <a:rPr b="1" lang="en-US" sz="2000" spc="-1" strike="noStrike" u="sng">
                <a:solidFill>
                  <a:srgbClr val="507800"/>
                </a:solidFill>
                <a:uFillTx/>
                <a:latin typeface="Verdana"/>
              </a:rPr>
              <a:t>electronic network</a:t>
            </a: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, typically the </a:t>
            </a:r>
            <a:r>
              <a:rPr b="1" lang="en-US" sz="2000" spc="-1" strike="noStrike" u="sng">
                <a:solidFill>
                  <a:srgbClr val="507800"/>
                </a:solidFill>
                <a:uFillTx/>
                <a:latin typeface="Verdana"/>
              </a:rPr>
              <a:t>internet</a:t>
            </a: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It is </a:t>
            </a:r>
            <a:r>
              <a:rPr b="1" lang="en-US" sz="2000" spc="-1" strike="noStrike" u="sng">
                <a:solidFill>
                  <a:srgbClr val="507800"/>
                </a:solidFill>
                <a:uFillTx/>
                <a:latin typeface="Verdana"/>
              </a:rPr>
              <a:t>a step ahead </a:t>
            </a: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of mail-order purchasing through a catalogue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It offers a </a:t>
            </a:r>
            <a:r>
              <a:rPr b="1" lang="en-US" sz="2000" spc="-1" strike="noStrike" u="sng">
                <a:solidFill>
                  <a:srgbClr val="507800"/>
                </a:solidFill>
                <a:uFillTx/>
                <a:latin typeface="Verdana"/>
              </a:rPr>
              <a:t>wide variety of products </a:t>
            </a: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and services. For example, clothes, books, financial services to train/plane tickets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It is a more </a:t>
            </a:r>
            <a:r>
              <a:rPr b="1" lang="en-US" sz="2000" spc="-1" strike="noStrike" u="sng">
                <a:solidFill>
                  <a:srgbClr val="507800"/>
                </a:solidFill>
                <a:uFillTx/>
                <a:latin typeface="Verdana"/>
              </a:rPr>
              <a:t>convenient</a:t>
            </a: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 method of shopping in terms of time and efforts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One can pay through </a:t>
            </a:r>
            <a:r>
              <a:rPr b="1" lang="en-US" sz="2000" spc="-1" strike="noStrike" u="sng">
                <a:solidFill>
                  <a:srgbClr val="507800"/>
                </a:solidFill>
                <a:uFillTx/>
                <a:latin typeface="Verdana"/>
              </a:rPr>
              <a:t>debit/credit card</a:t>
            </a: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 or through </a:t>
            </a:r>
            <a:r>
              <a:rPr b="1" lang="en-US" sz="2000" spc="-1" strike="noStrike" u="sng">
                <a:solidFill>
                  <a:srgbClr val="507800"/>
                </a:solidFill>
                <a:uFillTx/>
                <a:latin typeface="Verdana"/>
              </a:rPr>
              <a:t>cash on delivery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631" name=""/>
          <p:cNvSpPr txBox="1"/>
          <p:nvPr/>
        </p:nvSpPr>
        <p:spPr>
          <a:xfrm>
            <a:off x="1058760" y="2238480"/>
            <a:ext cx="7121520" cy="141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07800"/>
                </a:solidFill>
                <a:latin typeface="Verdana"/>
              </a:rPr>
              <a:t>Trading and DEMAT Account</a:t>
            </a:r>
            <a:endParaRPr b="1" lang="en-US" sz="44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DEMAT Account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633" name=""/>
          <p:cNvSpPr txBox="1"/>
          <p:nvPr/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o trade in stocks, one needs a trading and DEMAT account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One needs to understand the concepts related to trading and DEMAT account before opening one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It gives one convenience to buy and sell shares from the comfort of his home/office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It allows the investors to retain shares purchased in electronic form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DEMAT account facts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635" name=""/>
          <p:cNvSpPr txBox="1"/>
          <p:nvPr/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250000"/>
              </a:lnSpc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You can open multiple demat accounts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lnSpc>
                <a:spcPct val="250000"/>
              </a:lnSpc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ere are no account opening charges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lnSpc>
                <a:spcPct val="250000"/>
              </a:lnSpc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Can have nil balance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637" name=""/>
          <p:cNvSpPr txBox="1"/>
          <p:nvPr/>
        </p:nvSpPr>
        <p:spPr>
          <a:xfrm>
            <a:off x="1058760" y="2174760"/>
            <a:ext cx="7121520" cy="17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07800"/>
                </a:solidFill>
                <a:latin typeface="Verdana"/>
              </a:rPr>
              <a:t>SEBI Grievance Redressal</a:t>
            </a:r>
            <a:endParaRPr b="1" lang="en-US" sz="44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SEBI Grievance Redressal System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639" name=""/>
          <p:cNvSpPr txBox="1"/>
          <p:nvPr/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BI has developed a centralized web based system for lodging and tracking investor complaints is known as SCORES (SEBI Complaint Redress System)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CORES can accept complaint against any market intermediary that is registered with SEBI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e entity or intermediary needs to send an action taken report in SCORES within a reasonable period not more than 30 days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e stock exchanges are supposed to resolve disputes at their end within 15 days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Pension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641" name=""/>
          <p:cNvSpPr txBox="1"/>
          <p:nvPr/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Pension is the regular income of the individual after retirement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A Defined Benefit Pension plan is one in which a specified monthly benefit (payment) is available on retirement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A Defined Contribution Pension plan is one in which the pension amount is dependent upon the aggregated retirement corpus which in turn is determined by the amount of individual contribution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Pension (cont.)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643" name=""/>
          <p:cNvSpPr txBox="1"/>
          <p:nvPr/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Pension Fund Regulatory and Development Authority was established by Government of India on 10 October 2003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The Atal Bima Yojana is primarily focussed on all citizens in the unorganized sector, administered by PFRDA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All citizens of age 18 to 40 can open account under National Pension System (NPS)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Rectangle 2"/>
          <p:cNvSpPr/>
          <p:nvPr/>
        </p:nvSpPr>
        <p:spPr>
          <a:xfrm>
            <a:off x="0" y="4078440"/>
            <a:ext cx="9144000" cy="2781000"/>
          </a:xfrm>
          <a:prstGeom prst="rect">
            <a:avLst/>
          </a:prstGeom>
          <a:solidFill>
            <a:srgbClr val="328f03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5" name="Text Box 3"/>
          <p:cNvSpPr/>
          <p:nvPr/>
        </p:nvSpPr>
        <p:spPr>
          <a:xfrm>
            <a:off x="2652840" y="2643120"/>
            <a:ext cx="5762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99cc00"/>
                </a:solidFill>
                <a:latin typeface="Times New Roman"/>
                <a:ea typeface="Microsoft YaHei"/>
              </a:rPr>
              <a:t>Thank You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6" name="TextBox 5"/>
          <p:cNvSpPr/>
          <p:nvPr/>
        </p:nvSpPr>
        <p:spPr>
          <a:xfrm>
            <a:off x="-241200" y="4451400"/>
            <a:ext cx="93852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Email : info@ncfe.org.i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Call : </a:t>
            </a:r>
            <a:r>
              <a:rPr b="0" lang="en-IN" sz="2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022 68265 11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Like : facebook.com/ncfeind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Follow : twitter.com/ncfeind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Share : youtube.com/ncfeind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47" name="Picture 7" descr=""/>
          <p:cNvPicPr/>
          <p:nvPr/>
        </p:nvPicPr>
        <p:blipFill>
          <a:blip r:embed="rId1"/>
          <a:stretch/>
        </p:blipFill>
        <p:spPr>
          <a:xfrm>
            <a:off x="3405240" y="425520"/>
            <a:ext cx="2097000" cy="22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1058760" y="1985760"/>
            <a:ext cx="712152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07800"/>
                </a:solidFill>
                <a:latin typeface="Verdana"/>
              </a:rPr>
              <a:t>Beware!!</a:t>
            </a:r>
            <a:endParaRPr b="1" lang="en-US" sz="4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07800"/>
                </a:solidFill>
                <a:latin typeface="Verdana"/>
              </a:rPr>
              <a:t>e-commerce</a:t>
            </a:r>
            <a:endParaRPr b="1" lang="en-US" sz="24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be8b2"/>
                </a:solidFill>
                <a:latin typeface="Verdana"/>
              </a:rPr>
              <a:t>Things to be taken care of while using         e-Commerce</a:t>
            </a:r>
            <a:endParaRPr b="1" lang="en-US" sz="24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571" name=""/>
          <p:cNvSpPr txBox="1"/>
          <p:nvPr/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You need to take certain safety precautions while transacting online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35880" indent="-335880" algn="just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All you need to be careful about is: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35880" indent="-335880" algn="just">
              <a:spcBef>
                <a:spcPts val="499"/>
              </a:spcBef>
              <a:buClr>
                <a:srgbClr val="5078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Credit card borrowing limit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35880" indent="-335880" algn="just">
              <a:spcBef>
                <a:spcPts val="499"/>
              </a:spcBef>
              <a:buClr>
                <a:srgbClr val="5078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pams (unsolicited bulk business emails)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35880" indent="-335880" algn="just">
              <a:spcBef>
                <a:spcPts val="499"/>
              </a:spcBef>
              <a:buClr>
                <a:srgbClr val="5078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Availability of data pertaining to business on the online shopping website (street address, phone number of the company)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35880" indent="-335880" algn="just">
              <a:spcBef>
                <a:spcPts val="499"/>
              </a:spcBef>
              <a:buClr>
                <a:srgbClr val="5078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Privacy policy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35880" indent="-335880" algn="just">
              <a:spcBef>
                <a:spcPts val="499"/>
              </a:spcBef>
              <a:buClr>
                <a:srgbClr val="5078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Lock icon on the status bar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35880" indent="-335880" algn="just">
              <a:spcBef>
                <a:spcPts val="499"/>
              </a:spcBef>
              <a:buClr>
                <a:srgbClr val="5078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Select websites starting with “https:”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35880" indent="-335880" algn="just">
              <a:spcBef>
                <a:spcPts val="499"/>
              </a:spcBef>
              <a:buClr>
                <a:srgbClr val="5078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Keep records regarding all your online transactions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35880" indent="-335880" algn="just">
              <a:spcBef>
                <a:spcPts val="499"/>
              </a:spcBef>
              <a:buClr>
                <a:srgbClr val="5078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Verify claims and be aware of False claims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35880" indent="-3358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Advisory 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573" name=""/>
          <p:cNvSpPr txBox="1"/>
          <p:nvPr/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For ATM: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Watch for </a:t>
            </a:r>
            <a:r>
              <a:rPr b="1" lang="en-US" sz="2000" spc="-1" strike="noStrike" u="sng">
                <a:solidFill>
                  <a:srgbClr val="507800"/>
                </a:solidFill>
                <a:uFillTx/>
                <a:latin typeface="Verdana"/>
              </a:rPr>
              <a:t>suspicious devices </a:t>
            </a: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on the ATM machine to avoid data leakage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507800"/>
                </a:solidFill>
                <a:uFillTx/>
                <a:latin typeface="Verdana"/>
              </a:rPr>
              <a:t>Number of persons</a:t>
            </a: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 in ATM room should not be more than number of working ATM machines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Don’t let anybody notice your </a:t>
            </a:r>
            <a:r>
              <a:rPr b="1" lang="en-US" sz="2000" spc="-1" strike="noStrike" u="sng">
                <a:solidFill>
                  <a:srgbClr val="507800"/>
                </a:solidFill>
                <a:uFillTx/>
                <a:latin typeface="Verdana"/>
              </a:rPr>
              <a:t>ATM PIN</a:t>
            </a: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507800"/>
                </a:solidFill>
                <a:uFillTx/>
                <a:latin typeface="Verdana"/>
              </a:rPr>
              <a:t>Seek assistance</a:t>
            </a: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 only from the security guard in case of your card getting struck in the ATM machine. Do not seek help from strangers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Advisory 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575" name=""/>
          <p:cNvSpPr txBox="1"/>
          <p:nvPr/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451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07800"/>
                </a:solidFill>
                <a:latin typeface="Verdana"/>
              </a:rPr>
              <a:t>For POS transactions using ATM/Debit card and Internet banking: </a:t>
            </a:r>
            <a:endParaRPr b="1" lang="en-US" sz="18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While transacting at merchant establishment (POS), keep eyes on the </a:t>
            </a:r>
            <a:r>
              <a:rPr b="1" lang="en-US" sz="2000" spc="-1" strike="noStrike" u="sng">
                <a:solidFill>
                  <a:srgbClr val="507800"/>
                </a:solidFill>
                <a:uFillTx/>
                <a:latin typeface="Verdana"/>
              </a:rPr>
              <a:t>person swiping the card</a:t>
            </a: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 and always </a:t>
            </a:r>
            <a:r>
              <a:rPr b="1" lang="en-US" sz="2000" spc="-1" strike="noStrike" u="sng">
                <a:solidFill>
                  <a:srgbClr val="507800"/>
                </a:solidFill>
                <a:uFillTx/>
                <a:latin typeface="Verdana"/>
              </a:rPr>
              <a:t>enter the PIN yourself</a:t>
            </a: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Avoid using </a:t>
            </a:r>
            <a:r>
              <a:rPr b="1" lang="en-US" sz="2000" spc="-1" strike="noStrike" u="sng">
                <a:solidFill>
                  <a:srgbClr val="507800"/>
                </a:solidFill>
                <a:uFillTx/>
                <a:latin typeface="Verdana"/>
              </a:rPr>
              <a:t>public computers </a:t>
            </a: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like Cyber café for any e-commerce transactions/internet banking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Make sure that your PC has </a:t>
            </a:r>
            <a:r>
              <a:rPr b="1" lang="en-US" sz="2000" spc="-1" strike="noStrike" u="sng">
                <a:solidFill>
                  <a:srgbClr val="507800"/>
                </a:solidFill>
                <a:uFillTx/>
                <a:latin typeface="Verdana"/>
              </a:rPr>
              <a:t>latest antivirus</a:t>
            </a: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, anti-malware, personal firewall etc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118584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Advisory (cont.)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577" name=""/>
          <p:cNvSpPr txBox="1"/>
          <p:nvPr/>
        </p:nvSpPr>
        <p:spPr>
          <a:xfrm>
            <a:off x="1058760" y="1209600"/>
            <a:ext cx="7121520" cy="45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Never respond to any </a:t>
            </a:r>
            <a:r>
              <a:rPr b="1" lang="en-US" sz="2000" spc="-1" strike="noStrike" u="sng">
                <a:solidFill>
                  <a:srgbClr val="507800"/>
                </a:solidFill>
                <a:uFillTx/>
                <a:latin typeface="Verdana"/>
              </a:rPr>
              <a:t>email asking for your account credentials </a:t>
            </a: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(PIN, expiry date, card number, etc.) or </a:t>
            </a:r>
            <a:r>
              <a:rPr b="1" lang="en-US" sz="2000" spc="-1" strike="noStrike" u="sng">
                <a:solidFill>
                  <a:srgbClr val="507800"/>
                </a:solidFill>
                <a:uFillTx/>
                <a:latin typeface="Verdana"/>
              </a:rPr>
              <a:t>phishing mails </a:t>
            </a: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about lottery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Erase the </a:t>
            </a:r>
            <a:r>
              <a:rPr b="1" lang="en-US" sz="2000" spc="-1" strike="noStrike" u="sng">
                <a:solidFill>
                  <a:srgbClr val="507800"/>
                </a:solidFill>
                <a:uFillTx/>
                <a:latin typeface="Verdana"/>
              </a:rPr>
              <a:t>CVV number </a:t>
            </a: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on the backside of the card and memorize it or store it confidentially. 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5078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Avoid using </a:t>
            </a:r>
            <a:r>
              <a:rPr b="1" lang="en-US" sz="2000" spc="-1" strike="noStrike" u="sng">
                <a:solidFill>
                  <a:srgbClr val="507800"/>
                </a:solidFill>
                <a:uFillTx/>
                <a:latin typeface="Verdana"/>
              </a:rPr>
              <a:t>phone devices </a:t>
            </a:r>
            <a:r>
              <a:rPr b="1" lang="en-US" sz="2000" spc="-1" strike="noStrike">
                <a:solidFill>
                  <a:srgbClr val="507800"/>
                </a:solidFill>
                <a:latin typeface="Verdana"/>
              </a:rPr>
              <a:t>unless the device is secure.</a:t>
            </a: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507800"/>
              </a:solidFill>
              <a:latin typeface="Verdana"/>
            </a:endParaRPr>
          </a:p>
        </p:txBody>
      </p:sp>
    </p:spTree>
  </p:cSld>
  <p:transition>
    <p:blinds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1074600" y="12852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e8b2"/>
                </a:solidFill>
                <a:latin typeface="Verdana"/>
              </a:rPr>
              <a:t>Financial Regulatory Bodies in India</a:t>
            </a:r>
            <a:endParaRPr b="1" lang="en-US" sz="2800" spc="-1" strike="noStrike">
              <a:solidFill>
                <a:srgbClr val="dbe8b2"/>
              </a:solidFill>
              <a:latin typeface="Verdana"/>
            </a:endParaRPr>
          </a:p>
        </p:txBody>
      </p:sp>
      <p:sp>
        <p:nvSpPr>
          <p:cNvPr id="579" name=""/>
          <p:cNvSpPr txBox="1"/>
          <p:nvPr/>
        </p:nvSpPr>
        <p:spPr>
          <a:xfrm>
            <a:off x="3276360" y="1135080"/>
            <a:ext cx="5638680" cy="557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76"/>
              </a:spcBef>
              <a:buClr>
                <a:srgbClr val="5078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507800"/>
                </a:solidFill>
                <a:latin typeface="Verdana"/>
              </a:rPr>
              <a:t>The apex monetary and banking institution in India. India’s central bank.</a:t>
            </a:r>
            <a:endParaRPr b="1" lang="en-US" sz="19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76"/>
              </a:spcBef>
              <a:buClr>
                <a:srgbClr val="5078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507800"/>
                </a:solidFill>
                <a:latin typeface="Verdana"/>
              </a:rPr>
              <a:t>An autonomous statutory body  that protects investor’s interest in the securities market, promotes development of, and regulates securities and commodities markets.</a:t>
            </a:r>
            <a:endParaRPr b="1" lang="en-US" sz="19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507800"/>
                </a:solidFill>
                <a:latin typeface="Verdana"/>
              </a:rPr>
              <a:t> </a:t>
            </a:r>
            <a:endParaRPr b="1" lang="en-US" sz="19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76"/>
              </a:spcBef>
              <a:buClr>
                <a:srgbClr val="5078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507800"/>
                </a:solidFill>
                <a:latin typeface="Verdana"/>
              </a:rPr>
              <a:t>A statutory body that regulates and develops insurance sector in India. </a:t>
            </a:r>
            <a:endParaRPr b="1" lang="en-US" sz="19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76"/>
              </a:spcBef>
              <a:buClr>
                <a:srgbClr val="5078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507800"/>
              </a:solidFill>
              <a:latin typeface="Verdana"/>
            </a:endParaRPr>
          </a:p>
          <a:p>
            <a:pPr marL="343080" indent="-343080" algn="just">
              <a:spcBef>
                <a:spcPts val="476"/>
              </a:spcBef>
              <a:buClr>
                <a:srgbClr val="5078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507800"/>
                </a:solidFill>
                <a:latin typeface="Verdana"/>
              </a:rPr>
              <a:t>A statutory body that regulates the pension sector in India. </a:t>
            </a:r>
            <a:endParaRPr b="1" lang="en-US" sz="1900" spc="-1" strike="noStrike">
              <a:solidFill>
                <a:srgbClr val="507800"/>
              </a:solidFill>
              <a:latin typeface="Verdana"/>
            </a:endParaRPr>
          </a:p>
        </p:txBody>
      </p:sp>
      <p:sp>
        <p:nvSpPr>
          <p:cNvPr id="580" name="Text Placeholder 3"/>
          <p:cNvSpPr/>
          <p:nvPr/>
        </p:nvSpPr>
        <p:spPr>
          <a:xfrm>
            <a:off x="228600" y="1282680"/>
            <a:ext cx="3124080" cy="54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07800"/>
                </a:solidFill>
                <a:latin typeface="Verdana"/>
              </a:rPr>
              <a:t>Reserve Bank of Indi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507800"/>
                </a:solidFill>
                <a:latin typeface="Verdana"/>
              </a:rPr>
              <a:t>     </a:t>
            </a:r>
            <a:r>
              <a:rPr b="1" i="1" lang="en-US" sz="1600" spc="-1" strike="noStrike">
                <a:solidFill>
                  <a:srgbClr val="507800"/>
                </a:solidFill>
                <a:latin typeface="Verdana"/>
              </a:rPr>
              <a:t>Estab. April 1, 193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07800"/>
                </a:solidFill>
                <a:latin typeface="Verdana"/>
              </a:rPr>
              <a:t>Securities and Exchange Board of Indi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507800"/>
                </a:solidFill>
                <a:latin typeface="Verdana"/>
              </a:rPr>
              <a:t>     </a:t>
            </a:r>
            <a:r>
              <a:rPr b="1" i="1" lang="en-US" sz="1600" spc="-1" strike="noStrike">
                <a:solidFill>
                  <a:srgbClr val="507800"/>
                </a:solidFill>
                <a:latin typeface="Verdana"/>
              </a:rPr>
              <a:t>Estab.1988 | SEBI Act 199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280000"/>
              </a:lnSpc>
              <a:spcBef>
                <a:spcPts val="400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07800"/>
                </a:solidFill>
                <a:latin typeface="Verdana"/>
              </a:rPr>
              <a:t>Insurance Regulatory and Development Authority of Indi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507800"/>
                </a:solidFill>
                <a:latin typeface="Verdana"/>
              </a:rPr>
              <a:t>     </a:t>
            </a:r>
            <a:r>
              <a:rPr b="1" i="1" lang="en-US" sz="1600" spc="-1" strike="noStrike">
                <a:solidFill>
                  <a:srgbClr val="507800"/>
                </a:solidFill>
                <a:latin typeface="Verdana"/>
              </a:rPr>
              <a:t>Estab. 1999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5078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07800"/>
                </a:solidFill>
                <a:latin typeface="Verdana"/>
              </a:rPr>
              <a:t>Pension Fund Regulatory and Development Authorit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507800"/>
                </a:solidFill>
                <a:latin typeface="Verdana"/>
              </a:rPr>
              <a:t>    </a:t>
            </a:r>
            <a:r>
              <a:rPr b="1" i="1" lang="en-US" sz="1600" spc="-1" strike="noStrike">
                <a:solidFill>
                  <a:srgbClr val="507800"/>
                </a:solidFill>
                <a:latin typeface="Verdana"/>
              </a:rPr>
              <a:t>Estab. August 23, 200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0T14:55:55Z</dcterms:created>
  <dc:creator>吴忠毅</dc:creator>
  <dc:description/>
  <cp:keywords/>
  <dc:language>en-US</dc:language>
  <cp:lastModifiedBy>ncfeadmin</cp:lastModifiedBy>
  <cp:lastPrinted>1899-12-30T00:00:00Z</cp:lastPrinted>
  <dcterms:modified xsi:type="dcterms:W3CDTF">2021-06-30T04:43:11Z</dcterms:modified>
  <cp:revision>123</cp:revision>
  <dc:subject/>
  <dc:title>PowerPoint 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8.1.0.3018</vt:lpwstr>
  </property>
</Properties>
</file>