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dt" idx="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move the sli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ftr" idx="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 type="sldNum" idx="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EB90-B3DF-4A48-AC9F-2981AD509A01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3543-4D93-466A-AD4D-558025F2EF66}" type="slidenum">
              <a:rPr b="0" lang="zh-CN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inancial Education - Class VI, National Centre for Financial Edu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C9ED6-82A0-4EB7-8256-990511C0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83A2-8CDE-4327-BF41-C1A1AC0D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58055-BB30-41D5-815A-D3F38E350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67CE-1A88-4A2B-BA99-D02A4C61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9144F-0939-4C3E-882E-924CB4B8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BB39-40AF-45E9-BE3B-02016EF9B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BA0A1-A3EF-40BB-A0F2-E8BA4289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98F26-6A27-4C17-B9F4-08B1085E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6B57E-57BB-453E-A38C-526D926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0900-2854-44E5-9CB3-59B2BF01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45D0-155A-4575-86FE-0D11AF168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7CF9-E454-4F3A-B888-EE570AECD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CF4D-F2CB-4DB9-9A46-1608C4C0917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VI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0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1"/>
          <a:stretch/>
        </p:blipFill>
        <p:spPr>
          <a:xfrm>
            <a:off x="1058760" y="1209600"/>
            <a:ext cx="7121520" cy="45547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2" descr="C:\Documents and Settings\sandeep\Desktop\Cash Memo.jpg"/>
          <p:cNvPicPr/>
          <p:nvPr/>
        </p:nvPicPr>
        <p:blipFill>
          <a:blip r:embed="rId2"/>
          <a:stretch/>
        </p:blipFill>
        <p:spPr>
          <a:xfrm>
            <a:off x="0" y="0"/>
            <a:ext cx="4838760" cy="68580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3" descr="C:\Documents and Settings\sandeep\Desktop\25574.jpg"/>
          <p:cNvPicPr/>
          <p:nvPr/>
        </p:nvPicPr>
        <p:blipFill>
          <a:blip r:embed="rId3"/>
          <a:stretch/>
        </p:blipFill>
        <p:spPr>
          <a:xfrm>
            <a:off x="4838760" y="14400"/>
            <a:ext cx="4290840" cy="68436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at is Trade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nsfer of goods and services from one person or entity to another in exchange for something is called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roadly, there are two type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Domestic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Foreign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rade within the geographical boundary of a country is called domestic trad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eign trade happens between two or more countri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of trad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portunity for trade arises because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 country can produce goods at a lesser cost than the other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Also, a country can produce goods which the other country is unable to produce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05600" indent="-271440">
              <a:spcBef>
                <a:spcPts val="451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our country, Punjab is known for wheat farming where as Kerala predominantly produces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rmers in both these states have developed expertise in their area of farm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Kerala needs wheat, instead of doing wheat farming it can buy wheat from Punjab or can exchange it with ri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34160" indent="-3254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mportance of saving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 simple terms, savings is not spending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side a part of the money you have now for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don’t need a large amount to start sav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ut a little money aside regularly and it will grow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must spend less to save mo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aving will help you meet unexpected money requirements in fut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also set a goal and save for it, like buying your favorite book or to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600" name="Picture 2" descr="E:\All Desktop\Feb - May 2016\Picture1.jpg"/>
          <p:cNvPicPr/>
          <p:nvPr/>
        </p:nvPicPr>
        <p:blipFill>
          <a:blip r:embed="rId1"/>
          <a:srcRect l="0" t="3756" r="0" b="2861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ypes of tax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 is a fee charged by the government on income or price of a goo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tax is charged on income it is called direct tax and if it charged on the price of goods and services its known as indirect tax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ave you wondered from where government gets money to spend on building roads and bridges, parks, schools, hospitals, etc.?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Why do we need to pay taxes?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ur government has the responsibility to improve the  standard of living of our citize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need money to build roads, hospitals, parks and bridges etc. in our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axation generates this revenue which is used for all the above mentioned purpos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y paying taxes responsible citizens help their country grow and develop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7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8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onte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22724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istor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arter System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Evolution of Money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iv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eeds and Want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ill/ Cash Mem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Geography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buClr>
                <a:srgbClr val="8fad2f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Benefits of Tra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451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English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Radha and the Frog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Grandfather’s Coin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-471600">
              <a:spcBef>
                <a:spcPts val="1199"/>
              </a:spcBef>
              <a:buClr>
                <a:srgbClr val="5078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Mathematics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Taxation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840960" indent="-420480">
              <a:spcBef>
                <a:spcPts val="451"/>
              </a:spcBef>
              <a:buClr>
                <a:srgbClr val="4d4d4d"/>
              </a:buClr>
              <a:buSzPct val="6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Verdana"/>
              </a:rPr>
              <a:t>Nurturing the Money Plan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471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rter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1058760" y="1224000"/>
            <a:ext cx="39499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xchange of goods and services by one person in return for goods and services from</a:t>
            </a:r>
            <a:r>
              <a:rPr b="1" lang="en-US" sz="2000" spc="-1" strike="noStrike">
                <a:solidFill>
                  <a:srgbClr val="00b05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other person is called barter syste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s system existed when there was no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iculties existed under the barter system; like double coincidence of wa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7840" indent="-3355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75" name="Picture 4" descr="Jacksonville-Barter-Exchange-Trading.jpg"/>
          <p:cNvPicPr/>
          <p:nvPr/>
        </p:nvPicPr>
        <p:blipFill>
          <a:blip r:embed="rId1"/>
          <a:stretch/>
        </p:blipFill>
        <p:spPr>
          <a:xfrm>
            <a:off x="5092560" y="1982880"/>
            <a:ext cx="3835440" cy="23619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volution of Mone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ople were engaged in bart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goods to be exchanged were not necessarily of the same val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was also difficult to store goods, particularly perishable ones like fish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discovery of metal solved many of these difficulties and it begun to be used as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Long evolution proces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mall metal pieces, with fixed weight and value and bearing an official seal appeared in 6</a:t>
            </a:r>
            <a:r>
              <a:rPr b="1" lang="en-US" sz="2000" spc="-1" strike="noStrike" baseline="30000">
                <a:solidFill>
                  <a:srgbClr val="507800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century B.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dominantly gold and silver were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uring the Mauryan period copper was also used to mint coi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ing Sher Shah Suri issued a silver coin and termed it as ‘Rupiya’. The word is said to be derived from the Sanskrit word ‘Rupya’ which means a coin of silv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43160" indent="-3322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Rupee as we see toda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arliest issue of rupee in the form of paper currency was by the Bank of Hindusta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ndependence, followed by accession of princely states to the new union, Reserve Bank of India issued Indian National Rupee (INR) notes on behalf of the Governme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dian rupee now has a universally recognized symbol since the year 2010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ymbol: Major Currenci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pic>
        <p:nvPicPr>
          <p:cNvPr id="583" name="Content Placeholder 5" descr="CURRENCE2.png"/>
          <p:cNvPicPr/>
          <p:nvPr/>
        </p:nvPicPr>
        <p:blipFill>
          <a:blip r:embed="rId1"/>
          <a:stretch/>
        </p:blipFill>
        <p:spPr>
          <a:xfrm>
            <a:off x="1378080" y="990720"/>
            <a:ext cx="6472080" cy="46368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3" descr="want-need-apple.jpg"/>
          <p:cNvPicPr/>
          <p:nvPr/>
        </p:nvPicPr>
        <p:blipFill>
          <a:blip r:embed="rId1"/>
          <a:stretch/>
        </p:blipFill>
        <p:spPr>
          <a:xfrm>
            <a:off x="1450800" y="5383080"/>
            <a:ext cx="3326040" cy="1284480"/>
          </a:xfrm>
          <a:prstGeom prst="rect">
            <a:avLst/>
          </a:prstGeom>
          <a:ln w="0">
            <a:noFill/>
          </a:ln>
        </p:spPr>
      </p:pic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eds and Wan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Need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re things that we must have in order to survive - things we truly can’t be withou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507800"/>
                </a:solidFill>
                <a:latin typeface="Verdana"/>
              </a:rPr>
              <a:t>Want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n the other hand, are things that we would like to have, but that are not necessary for surviva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needs and wants don’t cost any money at all: like air. Many needs and wants, however, cost mone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should cater to your needs first, before you can buy the things you wa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sk for a bill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bill offers protection and benefits to both buyer and sell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f you don’t have the bill and the item you have purchased turns out to be faulty, you lose the right to complain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ome shopkeepers on their own won’t insist on giving you a bill as they want to avoid paying tax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very time you make a purchase or make any payments ask for a bill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457200" indent="-34272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36Z</dcterms:modified>
  <cp:revision>95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